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485280" y="900000"/>
            <a:ext cx="456588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1EBB-FE47-41AF-815F-B4958ACFD3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85640" y="9000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29D-59B4-484E-9F09-8C31E4EB0A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3DB7-CB50-4DAA-9652-620D6E5E02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6A43-6085-4349-A4F0-E8B74133E4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CF74-831F-4905-9E12-8EE24D257D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7F0D-5C99-4ECD-A23E-37A35A79EE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9E8-30DD-4B8A-B058-9996C0F582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E36D-D544-4594-A4A4-3AD50E45B5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FE1A-3021-45E7-94D2-C26DD48325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51C-2D84-4594-917B-0E35B1483C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1DD1-0C6F-4B02-8A40-D606780C98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5A5D-6F06-4E92-895B-BF5F52D909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603-438A-46A3-BA8A-2112F9AAB1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0CF4-BF93-43C9-9006-6D9F5820D9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4176-2A85-4EE4-83D7-EF3E72F774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811D-5E8B-471A-9278-86F042AC70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F8F-2DBB-4B2B-9C3C-EE2DDEEF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870-319B-4933-BDD7-8077ECE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539-5190-4304-AD86-D55887C1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800-200A-422D-9B01-CF8C12AF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EA2F-BC69-47E2-8155-548104AD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0002-85B1-447F-AC4B-8D83C74C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03A0-C41D-4B85-BD89-9474FE9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29EE-F395-4A0C-B62A-050AEDC3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BD65-9CE3-49E6-AAB7-44F474C7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A221-B3A1-4B41-BA1A-768F543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22D6-42BA-48ED-9541-85A4403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AC9-90A8-4FA5-AB0B-9123CA04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F88D-9FA8-4ED6-83C7-79F7157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646-2338-4F42-BC93-1842E6C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E4DF-5A3B-4818-839A-5361614F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B15D-2FF5-4D36-B6E1-DB18388E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3BE-B953-4111-8A2D-68536203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0E3-87E7-4C4A-8A15-A8117BD8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F47-BAAC-4BDF-9BCC-A483BAD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ADD-091E-47EF-8ADF-24D0D7BA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4CA-CC0A-477F-8FAC-A19D5D37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A9D-210D-4103-9044-376B3C9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AAF-0A23-4A27-A555-90DF2CB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38C-9408-442A-A4DB-4C01E68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6E51-27DA-4C37-A846-50D0B771A59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493-707B-4DEC-B2FE-9C4DFDF2515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fluencing Coastal Tourism Development an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Exert influence on development through advice, assistance, incentives and agreemen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positive approaches and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early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Investment Promotion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ider targeted financia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concessions, agreements etc. where applic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2" name="Picture 5" descr="IMG_879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the reach and potency of inspec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pections by Environment Agencies, Tourist Authorities and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ources for inspection are stret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portunities to coordinat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ise/promote results of insp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state of external environment as well as intern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6" name="Picture 5" descr="IMG_870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476360" y="5877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ean Bay Hotel, Cap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imulate and assist improved environmental (sustainability) management by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representative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rify requirements – improv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and promote EM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engthen voluntary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/support/promote certification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use of voluntary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se economic sustainabili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opics covered in this se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the Operation of Coastal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links with the previous se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urism Maste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CZM process and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cal destination management plan / touris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 use planning – for coast and local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effective application of EIAs for coastal tourism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al tool, used in all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rn about effect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focus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ty and consistency on what needed for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ropriate treatment of smal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ity and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engthening local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taking EIAs earlier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eadth of content – Strategic Environment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nitoring and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31813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984240" y="1197000"/>
            <a:ext cx="314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view and improve the process of handling and approving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steps needed to acquire lic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delays can lead to circum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better + quicker scrutiny an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to make basic requirements clearer at the out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2" name="Picture 8" descr="DSCF0473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Provide clear guidelines on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tion is a weakness and an opport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written guide would be helpful, to co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urism opportunities, reflecting any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eps to fo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ulations and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actical guidance on good practice – location, design, material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ng to local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uld be used by all agencies handl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197000"/>
            <a:ext cx="740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961920" y="1197000"/>
            <a:ext cx="3192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rcRect l="21662" t="28621" r="18197" b="15679"/>
          <a:stretch/>
        </p:blipFill>
        <p:spPr>
          <a:xfrm>
            <a:off x="5580000" y="1989000"/>
            <a:ext cx="2160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06:53Z</cp:lastPrinted>
  <dcterms:modified xsi:type="dcterms:W3CDTF">2013-10-19T18:09:14Z</dcterms:modified>
  <cp:revision>47</cp:revision>
  <dc:subject/>
  <dc:title>PowerPoint Presentation</dc:title>
</cp:coreProperties>
</file>